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EC7-F122-4321-A8B4-5C30B07C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EA5-C088-48AE-B221-B556DB9E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F1A-CB28-4AFB-8793-7CE79F0D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204-243D-450A-B4ED-FEE23470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DD9-3EE2-4853-A9B7-AD26E256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A7A-B7E2-4ACF-BBAC-8A245443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26F-D5BB-48E4-9E61-2AE25AA8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874-B467-4D72-AAC8-34D31E4F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8C2-0C50-46A7-9D1E-2D0AB72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E79-43CA-4C2C-8596-6B794CDB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C9A-FBB0-4C15-98B4-6F13AA1F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406-1C76-4D66-A472-2FD88D3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B45D-D7D0-4081-A5CE-775A2ED2C6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mensionierung vo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133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wicklung und Konstruktio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378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Abali 17.05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558972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le Bilder und Formeln sind Auszüge aus dem Roloff/Matek Maschinenele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stat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stat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dynam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2133720"/>
            <a:ext cx="88916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bei dynamischer Betriebs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497800" cy="381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497800" cy="381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luss der Krafteinleitung in die Verbi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351640" cy="367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5300640"/>
            <a:ext cx="87138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7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ftverhältnisse bei statischer oder dynamischer Querk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846440"/>
            <a:ext cx="8497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zbetrag/Vorspannkraftverl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7488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zbetrag/Vorspannkraftverl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748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wendu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auslegung der Schrauben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teilen der Schraubenverbind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im Montagezu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Nachgiebigkeit der Schra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Nachgiebigkeit der Baut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bei statischer Betriebsk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äfte und Verformungen bei dynamischer Betriebsk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luss der Krafteinleitung in die 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ftverhältnisse statischer und dynamischer Querkräf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zverhalten der Schraubenverbi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ziehen der 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agevorspannkraft, Anziehfaktor und –verfahr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haltung der maximal zulässigen Schraubenkr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der statischen 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ächenpressung an den Auflageflä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ösen der Schrauben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uerhaltbarkeit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chlagspannung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/dynamische Sicherhei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484280"/>
            <a:ext cx="9144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bereits erläutert, wird die Schraube durch die Zusatzkraft 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chwingend belas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dadurch gegebene Ausschlagkraft 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hrt zu einer Ausschlagspannu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äfte am Gewi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59280" y="6021360"/>
            <a:ext cx="16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tan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6021360"/>
            <a:ext cx="165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tan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windemo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893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zieh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iehen der Verbindung, Anziehdreh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zieh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263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437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ür den Normalfall (unbehandelte, geölte Schrauben) lässt sich für Befestigungsschrauben das Anziehdrehmoment hinreichend genau ermitteln durch die einfache Bezieh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148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wichtigen Verschraubungen ist ein kontrolliertes Anziehen (Anziehgerät s. Bild 8-21) unbedingt erforderlich, um eine verlangte Vorspannkraft möglichst genau zu erreich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tagewerkze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5327640" cy="739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00000" y="1557360"/>
            <a:ext cx="720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Maß für die Streuung der Vorspannkraft ist der Anziehfaktor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9973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ell ermittelte werte können der TB 8-11 entnomm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gevorspannkraft, Anziehfaktor und –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haltung der maximal zulässigen Schraubenk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chnung der statischen Sicher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wendungsbeispi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038480" cy="390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3500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behä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63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pp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ächenpressung an den Auflageflä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ösen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28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dreh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785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auslegung der Schrauben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34136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0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M TB 8-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rechnung von Befestigungsschrau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820000" cy="489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112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vorgespannte Verbi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12536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gespannte Verbi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sche Längenänderu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49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7489800" cy="389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203640" cy="367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1628640"/>
            <a:ext cx="5329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chgiebigkeit der Schrau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ch Addition der Nachgiebigkeiten der einzelnen Elemente erhält man die Nachgiebigkeit der Schra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chgiebigkeit der verspannten Te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5661000"/>
            <a:ext cx="5580000" cy="119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50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ft- und Verformungsverhältnisse bei vorgespannten Schraub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äfte und Verformungen im Montagezust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chgiebigkeit der verspannten Te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4869000"/>
            <a:ext cx="8101080" cy="198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24720" cy="273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244000" y="5157720"/>
            <a:ext cx="576000" cy="370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867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1:12:09Z</dcterms:created>
  <dc:creator>,</dc:creator>
  <dc:description/>
  <dc:language>en-US</dc:language>
  <cp:lastModifiedBy>,</cp:lastModifiedBy>
  <dcterms:modified xsi:type="dcterms:W3CDTF">2008-05-16T22:14:21Z</dcterms:modified>
  <cp:revision>15</cp:revision>
  <dc:subject/>
  <dc:title>Dimensionierung von Schraubenverbindungen</dc:title>
</cp:coreProperties>
</file>